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99E-F042-4459-9A5F-CED752F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539-9A1F-4726-8E9F-A510DB4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162-3A0D-4428-8CE8-3450600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E66-A144-450E-8528-54AF73C9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20C-A17B-428B-A0B9-711F902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D0F-D13C-49D9-AAE6-9345550D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AAB-733C-4D1D-A0C6-38319018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A2F-7988-42E9-B253-79C24A9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760" y="43920"/>
            <a:ext cx="74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843-482D-4766-A5DA-6AA5993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0BC-481D-4C7C-A926-424EC7B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D4A-7002-4692-B1B3-6E0B947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171-C622-4FF4-B7DE-0D3BCF2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CC5F-E43A-417A-8602-E9C7F7C6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onderv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79280" y="6561000"/>
            <a:ext cx="289080" cy="171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3262320" y="3268800"/>
            <a:ext cx="2203560" cy="97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24000" y="1484280"/>
            <a:ext cx="1698480" cy="795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aagst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43280" y="1341360"/>
            <a:ext cx="1698840" cy="79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aagst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684360" y="5013360"/>
            <a:ext cx="1698480" cy="79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aagst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6"/>
          <p:cNvCxnSpPr>
            <a:stCxn id="45" idx="5"/>
            <a:endCxn id="44" idx="1"/>
          </p:cNvCxnSpPr>
          <p:nvPr/>
        </p:nvCxnSpPr>
        <p:spPr>
          <a:xfrm>
            <a:off x="1773720" y="2163240"/>
            <a:ext cx="1811520" cy="1249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9" name="AutoShape 17"/>
          <p:cNvCxnSpPr>
            <a:stCxn id="44" idx="3"/>
            <a:endCxn id="47" idx="7"/>
          </p:cNvCxnSpPr>
          <p:nvPr/>
        </p:nvCxnSpPr>
        <p:spPr>
          <a:xfrm flipH="1">
            <a:off x="2134080" y="4104720"/>
            <a:ext cx="1451160" cy="102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0" name="AutoShape 18"/>
          <p:cNvCxnSpPr>
            <a:stCxn id="46" idx="4"/>
            <a:endCxn id="44" idx="0"/>
          </p:cNvCxnSpPr>
          <p:nvPr/>
        </p:nvCxnSpPr>
        <p:spPr>
          <a:xfrm flipH="1">
            <a:off x="4364280" y="2138400"/>
            <a:ext cx="1128960" cy="1130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1" name="Text Box 20"/>
          <p:cNvSpPr/>
          <p:nvPr/>
        </p:nvSpPr>
        <p:spPr>
          <a:xfrm>
            <a:off x="468360" y="6524640"/>
            <a:ext cx="83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skunde A bereidt voor op opleidingen in de sociale, economische en biomedische rich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21000"/>
            <a:ext cx="3390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eten meisjes vroeger thuis zijn dan jonge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ie wint de volgende verkiezing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92428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e groot is de markt voor mijn produ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e ontwikkelt de werkeloosheid zich de komende jar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372360" y="4437000"/>
            <a:ext cx="1698480" cy="79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AutoShape 17"/>
          <p:cNvCxnSpPr>
            <a:stCxn id="44" idx="5"/>
            <a:endCxn id="54" idx="1"/>
          </p:cNvCxnSpPr>
          <p:nvPr/>
        </p:nvCxnSpPr>
        <p:spPr>
          <a:xfrm>
            <a:off x="5143320" y="4104720"/>
            <a:ext cx="1478160" cy="449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6" name=""/>
          <p:cNvSpPr/>
          <p:nvPr/>
        </p:nvSpPr>
        <p:spPr>
          <a:xfrm>
            <a:off x="2916360" y="501336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rijgen lange ouders lange kinder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at is het effect van pijnstillers op cholesterolgehal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 is onderzo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926720"/>
            <a:ext cx="8712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zoek doe je om 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isproble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 te lo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zoek is fundamentee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ktijkgeri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zoek is altijd kwalitatief en vaa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wantitati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zoek gebruik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or het kwantitatieve d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zoek doen vraagt: kenni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walit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 4 st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71640" y="2727360"/>
            <a:ext cx="3313080" cy="2432160"/>
            <a:chOff x="2771640" y="2727360"/>
            <a:chExt cx="3313080" cy="2432160"/>
          </a:xfrm>
        </p:grpSpPr>
        <p:sp>
          <p:nvSpPr>
            <p:cNvPr id="61" name=""/>
            <p:cNvSpPr/>
            <p:nvPr/>
          </p:nvSpPr>
          <p:spPr>
            <a:xfrm>
              <a:off x="3203280" y="3087720"/>
              <a:ext cx="2376720" cy="1727280"/>
            </a:xfrm>
            <a:prstGeom prst="ellipse">
              <a:avLst/>
            </a:prstGeom>
            <a:solidFill>
              <a:srgbClr val="eef8f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71640" y="3376440"/>
              <a:ext cx="129672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wonder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7640" y="3376440"/>
              <a:ext cx="129708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kenn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87640" y="4168800"/>
              <a:ext cx="129708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wer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71640" y="4168800"/>
              <a:ext cx="129672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rij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2160" y="27273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42160" y="44560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940360" y="1341360"/>
            <a:ext cx="2664000" cy="1368360"/>
          </a:xfrm>
          <a:prstGeom prst="cloudCallout">
            <a:avLst>
              <a:gd name="adj1" fmla="val -45291"/>
              <a:gd name="adj2" fmla="val 84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 is precies mijn onderzoeksvraag en hoe kan ik die beantwoord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341360"/>
            <a:ext cx="2305080" cy="1368360"/>
          </a:xfrm>
          <a:prstGeom prst="cloudCallout">
            <a:avLst>
              <a:gd name="adj1" fmla="val 59226"/>
              <a:gd name="adj2" fmla="val 84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ar verwonder ik me over? Wat is de context van de vraa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300640"/>
            <a:ext cx="2521080" cy="1368360"/>
          </a:xfrm>
          <a:prstGeom prst="cloudCallout">
            <a:avLst>
              <a:gd name="adj1" fmla="val 44143"/>
              <a:gd name="adj2" fmla="val -1003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ke conclusies kan ik hieruit trekken voor de contex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5300640"/>
            <a:ext cx="2448000" cy="1368360"/>
          </a:xfrm>
          <a:prstGeom prst="cloudCallout">
            <a:avLst>
              <a:gd name="adj1" fmla="val -62777"/>
              <a:gd name="adj2" fmla="val -991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 zijn de concrete resultaten van mijn onderzoe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59280" y="5445000"/>
            <a:ext cx="1368360" cy="1293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ek &amp;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5410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wantitatieve informatie uit gegevens h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ta, data en nog een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el en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n niet zonder 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BS &amp;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3419640" y="4002120"/>
            <a:ext cx="252072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68360" y="4363920"/>
            <a:ext cx="194472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4789440" y="1987560"/>
            <a:ext cx="194472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6516720" y="5372280"/>
            <a:ext cx="1944720" cy="93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16"/>
          <p:cNvCxnSpPr>
            <a:stCxn id="76" idx="6"/>
            <a:endCxn id="75" idx="2"/>
          </p:cNvCxnSpPr>
          <p:nvPr/>
        </p:nvCxnSpPr>
        <p:spPr>
          <a:xfrm flipV="1">
            <a:off x="2413080" y="4577760"/>
            <a:ext cx="1007280" cy="254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0" name="AutoShape 17"/>
          <p:cNvCxnSpPr>
            <a:stCxn id="75" idx="5"/>
            <a:endCxn id="78" idx="1"/>
          </p:cNvCxnSpPr>
          <p:nvPr/>
        </p:nvCxnSpPr>
        <p:spPr>
          <a:xfrm>
            <a:off x="5570280" y="4986000"/>
            <a:ext cx="1230840" cy="523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cxnSp>
        <p:nvCxnSpPr>
          <p:cNvPr id="81" name="AutoShape 18"/>
          <p:cNvCxnSpPr>
            <a:stCxn id="77" idx="4"/>
            <a:endCxn id="75" idx="0"/>
          </p:cNvCxnSpPr>
          <p:nvPr/>
        </p:nvCxnSpPr>
        <p:spPr>
          <a:xfrm flipH="1">
            <a:off x="4679280" y="2924280"/>
            <a:ext cx="1083240" cy="107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527960" y="1658880"/>
            <a:ext cx="122076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892" y="18277"/>
                </a:moveTo>
                <a:lnTo>
                  <a:pt x="-1348" y="5201"/>
                </a:lnTo>
              </a:path>
              <a:path w="21600" h="21600">
                <a:moveTo>
                  <a:pt x="-1348" y="0"/>
                </a:moveTo>
                <a:lnTo>
                  <a:pt x="-1348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Nationale Doors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400" y="5950080"/>
            <a:ext cx="1290600" cy="50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680" y="-25893"/>
                </a:moveTo>
                <a:lnTo>
                  <a:pt x="-1275" y="4906"/>
                </a:lnTo>
              </a:path>
              <a:path w="21600" h="21600">
                <a:moveTo>
                  <a:pt x="-1275" y="0"/>
                </a:moveTo>
                <a:lnTo>
                  <a:pt x="-1275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Titanic passagierslij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24720" y="2205000"/>
            <a:ext cx="13636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 BMI onderzo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- en overgewicht bij scho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gevens van 154 leer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VU-statis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derzoeksverslag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il je verslag na iedere les naar: B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loop nu de 5 punten van opdracht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ek &amp; 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asets zijn doorgaans erg g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sche bewerkingen zijn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praktijk wordt geen statistiek bedreven zonder 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U-Statistiek is educatief en beschikbaar voor lee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cel standaard beschikbaar op iedere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SS is een bekend professioneel pak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413080" y="4005360"/>
            <a:ext cx="4464000" cy="2592000"/>
            <a:chOff x="2413080" y="4005360"/>
            <a:chExt cx="4464000" cy="2592000"/>
          </a:xfrm>
        </p:grpSpPr>
        <p:sp>
          <p:nvSpPr>
            <p:cNvPr id="90" name="Oval 5"/>
            <p:cNvSpPr/>
            <p:nvPr/>
          </p:nvSpPr>
          <p:spPr>
            <a:xfrm>
              <a:off x="5344920" y="4555080"/>
              <a:ext cx="1532160" cy="62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d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6"/>
            <p:cNvSpPr/>
            <p:nvPr/>
          </p:nvSpPr>
          <p:spPr>
            <a:xfrm>
              <a:off x="2413080" y="4005360"/>
              <a:ext cx="1532160" cy="62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zam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375720" y="5968800"/>
              <a:ext cx="1532160" cy="62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wac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8"/>
            <p:cNvCxnSpPr>
              <a:stCxn id="91" idx="4"/>
              <a:endCxn id="92" idx="1"/>
            </p:cNvCxnSpPr>
            <p:nvPr/>
          </p:nvCxnSpPr>
          <p:spPr>
            <a:xfrm>
              <a:off x="3178800" y="4633560"/>
              <a:ext cx="422280" cy="142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AutoShape 9"/>
            <p:cNvCxnSpPr>
              <a:stCxn id="92" idx="7"/>
              <a:endCxn id="90" idx="4"/>
            </p:cNvCxnSpPr>
            <p:nvPr/>
          </p:nvCxnSpPr>
          <p:spPr>
            <a:xfrm flipV="1">
              <a:off x="4682880" y="5183280"/>
              <a:ext cx="1428480" cy="87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AutoShape 10"/>
            <p:cNvCxnSpPr>
              <a:stCxn id="91" idx="6"/>
              <a:endCxn id="90" idx="1"/>
            </p:cNvCxnSpPr>
            <p:nvPr/>
          </p:nvCxnSpPr>
          <p:spPr>
            <a:xfrm>
              <a:off x="3944880" y="4319280"/>
              <a:ext cx="162540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6" name="Oval 11"/>
            <p:cNvSpPr/>
            <p:nvPr/>
          </p:nvSpPr>
          <p:spPr>
            <a:xfrm>
              <a:off x="3638160" y="4908240"/>
              <a:ext cx="1531800" cy="628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onderzoe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 is statisti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verzamelen, ordenen, vergelijken en conclusies trekken uit data(s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gestandaardiseerd onderdeel van kwantitatief onderzo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enkel ander deelgebied van de wiskunde wordt in onze maatschappij zo veelvuldig toegepast als de statis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tatistiek hanteert verschillende wiskundige concep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11:21Z</dcterms:created>
  <dc:creator>Thijs van Bruchem</dc:creator>
  <dc:description/>
  <dc:language>en-US</dc:language>
  <cp:lastModifiedBy>Thijs van Bruchem</cp:lastModifiedBy>
  <dcterms:modified xsi:type="dcterms:W3CDTF">2010-11-12T09:26:32Z</dcterms:modified>
  <cp:revision>291</cp:revision>
  <dc:subject/>
  <dc:title>Dia 1</dc:title>
</cp:coreProperties>
</file>