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9BE6-48B7-480A-8396-5FAEEA190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8DB7-2539-4919-861A-52DB81C0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5DC0-D57C-4D8F-9336-F39ABAA45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D353-C50C-48D1-922D-69DC600C4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E092-DAE1-49F2-A0BB-58E62C49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6EE7-4D2A-4250-B8BC-614702B5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A1D2-4978-4965-9CE5-6BA7EA33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ECF5-A34F-4BE7-A9D8-C67A4992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8760" y="43920"/>
            <a:ext cx="7437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8B4D-67AE-44EB-98FB-50C27C20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3496-04B9-4404-9FBD-897F991E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F75E-2F4D-4505-AFB8-FADC5296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359A-6580-43B1-9C2E-D7FC2607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68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1076-0F7D-45A7-B2B8-D80158601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we data en frequentie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tplots laten de ruwe data z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dere dot is een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goede manier om data te verke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e statistiek zijn we echter geïnteresseerd in frequen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aantal elementen in een deelverzameling d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ties kun je goed vergelij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doen dit door groepen of klassen te ma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drac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BMI is een indicator voor onder- en overgewicht die is berekend met de formule gewicht / lengt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k nu opdrach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.5, 2.6.1 en 2.6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bruik je verslag van gisteren;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en deze eer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ze staat in de folder: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:\A Statistiek\Verslagen le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daarna het practicum op en kies vo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el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equenties vergelij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or groepen te vergelijken, bijvoorbeeld overleving v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nen versus vrouwen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rste klas versus derde kla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n combinatie van die tw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or klassen te vergelijken, bijvoorbe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e is de verdeling van leeftijden van passag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e is de verdeling van lengtes van leer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bruik hiervoor staafdiagrammen en histogra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8760" y="4392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drac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jn er wezenlijke verschillen tussen mannen en vrouwen als het gaat om BM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k nu opdrach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.1, 3.2 en 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en het nieuwe verslag voor les 3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la dit weer op onder je eigen naam (niet in de folder waar verslag 2 in sta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0T14:11:21Z</dcterms:created>
  <dc:creator>Thijs van Bruchem</dc:creator>
  <dc:description/>
  <dc:language>en-US</dc:language>
  <cp:lastModifiedBy>OSB</cp:lastModifiedBy>
  <dcterms:modified xsi:type="dcterms:W3CDTF">2010-11-17T10:22:27Z</dcterms:modified>
  <cp:revision>301</cp:revision>
  <dc:subject/>
  <dc:title>Dia 1</dc:title>
</cp:coreProperties>
</file>