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7131-4017-465B-B0F6-3C77C3395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B02B-60E6-445F-84ED-46080C8D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4782-5A2B-47F8-8025-80CD7830F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CD65-59A5-4CD9-A338-5C13746CC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C48C-7FFF-4459-90F7-F7F81236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AF10-D7C2-4610-A3D3-A2F51B74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965E-4A54-4E71-A02F-392EE5CE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94FA-4FF0-429E-923E-0A419DAD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8760" y="43920"/>
            <a:ext cx="7437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D3CE-8EE5-4F51-A89B-1580457A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A254-FA6D-4ED4-89B9-0F2492DB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57A0-18B4-4F15-9A1B-963989D7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FEDF-23C4-4D41-9BF4-9599F0CA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68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03E6-808F-4F06-943B-9BA6E8DB9AE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Kwalitatieve variabe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hthoek 2"/>
          <p:cNvSpPr/>
          <p:nvPr/>
        </p:nvSpPr>
        <p:spPr>
          <a:xfrm>
            <a:off x="539640" y="2727360"/>
            <a:ext cx="7777440" cy="325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standsopzet voor  Bestand TITANIC_ne.V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5 Variabe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atum: 4-11-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o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aam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ype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oelich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assagier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ekst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naam van de passagi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klass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heel getal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geboekte comfortklas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eeftijd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heel getal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leeftijd van de passagi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slacht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abel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geslacht van de passagi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Labels: 0 man  1 vrouw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verleving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abel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mgekomen of gere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Labels: 0 omgekomen  1 ge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395280" y="1616040"/>
            <a:ext cx="808668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en labelvariabele is kwalitatief, maar discreet: er is een beperkt aantal mogelijke waa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e waarden van een tekstvariabele kun je niet vergelijken en zijn daarom puur informatie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ntervalschui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324000" y="132408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6927840" y="2679840"/>
            <a:ext cx="1965240" cy="1798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In een dotplot kun je makkelijk tellen door intervalschuiven te plaats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Je kan werken met aantallen of procen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plitsen op groep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250920" y="1244520"/>
            <a:ext cx="6480000" cy="56134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6948360" y="1700280"/>
            <a:ext cx="1944720" cy="2225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Je kunt in een dotplot de verzameling in groepen splitsen op de waarden van een labelvariabe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Splitsen kan ook bij andere diagramtyp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plitsen op klas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539640" y="1447920"/>
            <a:ext cx="7620120" cy="5410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6588000" y="1700280"/>
            <a:ext cx="1965600" cy="1798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ls je splitst op een kwantitatieve variabele worden er klassen gevorm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Je kunt de grootte van de klassen zelf kiez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0T14:11:21Z</dcterms:created>
  <dc:creator>Thijs van Bruchem</dc:creator>
  <dc:description/>
  <dc:language>en-US</dc:language>
  <cp:lastModifiedBy>Thijs</cp:lastModifiedBy>
  <dcterms:modified xsi:type="dcterms:W3CDTF">2010-11-15T19:26:04Z</dcterms:modified>
  <cp:revision>270</cp:revision>
  <dc:subject/>
  <dc:title>Dia 1</dc:title>
</cp:coreProperties>
</file>