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BA6-63B9-491E-B6B0-A76FE50C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6C5-0F4A-459C-BA74-B8343E2C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092-92C7-4099-BA40-585B8EB4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C3B-0023-4F21-A290-D413949F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BB2-6017-495C-A0B4-A2916053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EB0-AA1F-4619-9E08-5B5BAAAB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899B-EBC2-40CC-9BAC-D9164E23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C03-4B76-4D6C-A608-129F35E7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8760" y="43920"/>
            <a:ext cx="7437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6CB-1EFE-4AC4-B89E-37792765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01D-020F-465C-8F32-D9605D50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67C-2DBC-492E-B8FD-FCDB7C38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544-F173-4ABE-B5E3-419C4E48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857D-11CA-4529-980D-0AEAEED78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 is toev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0080" y="1341360"/>
            <a:ext cx="62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gooien zes keer een dobbelst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 is een waarschijnlijker serie:  666666 of 546344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84520"/>
            <a:ext cx="4560840" cy="304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7400" y="6010200"/>
            <a:ext cx="68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ens zoekt en vindt altijd patronen! Maar wat is de beteken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engte van 50.000 leer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13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 normale ver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49960" y="5877000"/>
            <a:ext cx="744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ze verdeling heet de normale verdeling omdat ze heel veel voorkom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een het gemiddelde en de spreiding zijn variabel en dus de te onderzoeken parame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 handtekening van toe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5438520" cy="4810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0" y="1412640"/>
            <a:ext cx="43308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rom chaos to or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FA uit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3141720"/>
            <a:ext cx="43304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 van Ga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ehoek van Pa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te en kleine aant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normale verdeling is een bena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772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beter wordt als de aantallen groter zij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772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bij afwijkingen door willekeurige fouten vrijwel altijd p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r is niet altijd de best passende ver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772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zijn gelukkig handige vuistregels v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772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dat er ook systematische afwijkingen voork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och w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772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wonder van de centrale limietst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772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demo met dobbelste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kpro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772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e groter hoe nauwkeuriger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ogi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772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e vaker hoe nauwkeuriger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akti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wach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pulatie &amp; steekpro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v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elect (willekeur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tten &amp; betrouwbaa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bijheid (inter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n)zekerheid (percent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spellen &amp; k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komst: frequentie-ver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komst: kans-ver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4:11:21Z</dcterms:created>
  <dc:creator>Thijs van Bruchem</dc:creator>
  <dc:description/>
  <dc:language>en-US</dc:language>
  <cp:lastModifiedBy>OSB</cp:lastModifiedBy>
  <dcterms:modified xsi:type="dcterms:W3CDTF">2010-11-24T11:02:33Z</dcterms:modified>
  <cp:revision>282</cp:revision>
  <dc:subject/>
  <dc:title>Dia 1</dc:title>
</cp:coreProperties>
</file>