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207-C6D8-4545-BD13-A172E690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545-2F69-473C-8142-9C5E8B2C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EAD-3AEB-4526-AB8E-8CF0CE6E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E6B-45A9-4425-B07D-CFACD5D8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66F-7D2C-4040-9457-450CF46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7E1-A22B-40F7-B00A-9E8BAA8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4EA-A12A-4629-A947-BCA1A3ED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C69-777F-449F-984D-AA5EBF81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760" y="43920"/>
            <a:ext cx="74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C7D-47FF-48AC-AF9A-6C90DB9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643-5B21-43E4-9CBA-AD6C9D5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291-5AF2-47AF-8E46-B3567F4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6B6-1CA5-4750-ABFB-D1D4A59A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3EEC-40C1-47EB-BD1C-CCB815BF09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700360" y="1773360"/>
            <a:ext cx="3166920" cy="3166920"/>
            <a:chOff x="2700360" y="1773360"/>
            <a:chExt cx="3166920" cy="3166920"/>
          </a:xfrm>
        </p:grpSpPr>
        <p:sp>
          <p:nvSpPr>
            <p:cNvPr id="43" name=""/>
            <p:cNvSpPr/>
            <p:nvPr/>
          </p:nvSpPr>
          <p:spPr>
            <a:xfrm>
              <a:off x="2700360" y="397368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1640" y="4148280"/>
              <a:ext cx="25704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70400" y="4324320"/>
              <a:ext cx="257040" cy="26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41760" y="46767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25760" y="467676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1640" y="27399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56080" y="300528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83040" y="37083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1800" y="406080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40200" y="4148280"/>
              <a:ext cx="25740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35772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86160" y="344484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0400" y="38847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8800" y="4237200"/>
              <a:ext cx="25740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68720" y="17733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83040" y="238932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83040" y="300348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0080" y="3267000"/>
              <a:ext cx="257400" cy="26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7480" y="353232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54520" y="379584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70400" y="2211480"/>
              <a:ext cx="25704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41880" y="274176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84600" y="300528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25880" y="3268800"/>
              <a:ext cx="25560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480" y="3797280"/>
              <a:ext cx="2574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25880" y="2211480"/>
              <a:ext cx="255600" cy="26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84600" y="2565360"/>
              <a:ext cx="2556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1480" y="2739960"/>
              <a:ext cx="25740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10240" y="3357720"/>
              <a:ext cx="25704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rzameling van 29 leer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50040" y="560232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dere dot (stip) is een leerl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leer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00360" y="1773360"/>
            <a:ext cx="3166560" cy="3166560"/>
            <a:chOff x="2700360" y="1773360"/>
            <a:chExt cx="3166560" cy="3166560"/>
          </a:xfrm>
        </p:grpSpPr>
        <p:sp>
          <p:nvSpPr>
            <p:cNvPr id="76" name=""/>
            <p:cNvSpPr/>
            <p:nvPr/>
          </p:nvSpPr>
          <p:spPr>
            <a:xfrm>
              <a:off x="2700360" y="3973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640" y="4148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70040" y="4324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41760" y="46764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25400" y="46764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1640" y="27396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5360" y="3005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3760" y="3707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2160" y="406116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40560" y="4148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57040" y="3356640"/>
              <a:ext cx="25632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85440" y="344376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70040" y="38844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98440" y="42375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8360" y="177336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83760" y="238824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83760" y="300312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0080" y="32673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7120" y="353124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53800" y="379548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7004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2240" y="274140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83880" y="3005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5520" y="326952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2200" y="3797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2552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83880" y="25650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2200" y="27396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0600" y="335664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724800" y="3556080"/>
            <a:ext cx="173484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3564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93000"/>
            <a:ext cx="255600" cy="263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453360"/>
            <a:ext cx="255600" cy="263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" y="604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6920" y="64054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deelverzame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700360" y="1773360"/>
            <a:ext cx="3166560" cy="3166560"/>
            <a:chOff x="2700360" y="1773360"/>
            <a:chExt cx="3166560" cy="3166560"/>
          </a:xfrm>
        </p:grpSpPr>
        <p:sp>
          <p:nvSpPr>
            <p:cNvPr id="113" name=""/>
            <p:cNvSpPr/>
            <p:nvPr/>
          </p:nvSpPr>
          <p:spPr>
            <a:xfrm>
              <a:off x="2700360" y="39736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1640" y="41482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70040" y="43246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41760" y="4676400"/>
              <a:ext cx="25668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25400" y="4676400"/>
              <a:ext cx="25632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1640" y="2739600"/>
              <a:ext cx="256680" cy="263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55360" y="300528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3760" y="3707640"/>
              <a:ext cx="25632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2160" y="4061160"/>
              <a:ext cx="256320" cy="263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40560" y="4148280"/>
              <a:ext cx="25632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57040" y="3356640"/>
              <a:ext cx="25632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85440" y="344376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040" y="388440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8440" y="423756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8360" y="1773360"/>
              <a:ext cx="25668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83760" y="2388240"/>
              <a:ext cx="25632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83760" y="300312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40080" y="326736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7120" y="3531240"/>
              <a:ext cx="25668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53800" y="3795480"/>
              <a:ext cx="256320" cy="263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70040" y="22114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42240" y="2741400"/>
              <a:ext cx="25632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83880" y="30052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25520" y="3269520"/>
              <a:ext cx="256680" cy="263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2200" y="379728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5520" y="22114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83880" y="2565000"/>
              <a:ext cx="25668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2200" y="2739600"/>
              <a:ext cx="25632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0600" y="3356640"/>
              <a:ext cx="256320" cy="26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724800" y="3556080"/>
            <a:ext cx="173484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564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6093000"/>
            <a:ext cx="255600" cy="263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453360"/>
            <a:ext cx="255600" cy="263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6920" y="604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6920" y="64054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leer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00360" y="1773360"/>
            <a:ext cx="3166560" cy="3166560"/>
            <a:chOff x="2700360" y="1773360"/>
            <a:chExt cx="3166560" cy="3166560"/>
          </a:xfrm>
        </p:grpSpPr>
        <p:sp>
          <p:nvSpPr>
            <p:cNvPr id="150" name=""/>
            <p:cNvSpPr/>
            <p:nvPr/>
          </p:nvSpPr>
          <p:spPr>
            <a:xfrm>
              <a:off x="2700360" y="3973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1640" y="4148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70040" y="4324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41760" y="46764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25400" y="46764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1640" y="27396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5360" y="3005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3760" y="3707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2160" y="406116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0560" y="4148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57040" y="3356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85440" y="344376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70040" y="38844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98440" y="42375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8360" y="177336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83760" y="238824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83760" y="300312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0080" y="32673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7120" y="353124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53800" y="379548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7004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2240" y="274140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3005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25520" y="3269520"/>
              <a:ext cx="25668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2200" y="3797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2552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83880" y="25650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82200" y="27396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10600" y="3356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724800" y="3556080"/>
            <a:ext cx="173484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564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cc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093000"/>
            <a:ext cx="255600" cy="263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6453360"/>
            <a:ext cx="255600" cy="263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6560" y="6045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6560" y="64054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deelverzame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700360" y="1773360"/>
            <a:ext cx="3166560" cy="3166560"/>
            <a:chOff x="2700360" y="1773360"/>
            <a:chExt cx="3166560" cy="3166560"/>
          </a:xfrm>
        </p:grpSpPr>
        <p:sp>
          <p:nvSpPr>
            <p:cNvPr id="187" name=""/>
            <p:cNvSpPr/>
            <p:nvPr/>
          </p:nvSpPr>
          <p:spPr>
            <a:xfrm>
              <a:off x="2700360" y="3973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1640" y="4148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70040" y="43246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1760" y="46764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25400" y="46764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1640" y="2739600"/>
              <a:ext cx="25668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55360" y="3005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3760" y="3707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2160" y="4061160"/>
              <a:ext cx="25632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40560" y="4148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57040" y="3356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85440" y="344376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70040" y="38844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98440" y="42375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68360" y="1773360"/>
              <a:ext cx="25668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83760" y="2388240"/>
              <a:ext cx="25632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3760" y="300312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0080" y="326736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7120" y="353124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3800" y="3795480"/>
              <a:ext cx="25632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7004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42240" y="274140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83880" y="30052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5520" y="3269520"/>
              <a:ext cx="25668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2200" y="379728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5520" y="221148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83880" y="2565000"/>
              <a:ext cx="25668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2200" y="2739600"/>
              <a:ext cx="256320" cy="2635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0600" y="3356640"/>
              <a:ext cx="256320" cy="26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724800" y="3556080"/>
            <a:ext cx="173484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3564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cc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708520"/>
            <a:ext cx="255600" cy="263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6080040"/>
            <a:ext cx="255600" cy="263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6440" y="56610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6800" y="6021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451560"/>
            <a:ext cx="255600" cy="263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6800" y="6404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eelverzame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700360" y="1773360"/>
            <a:ext cx="3166560" cy="3166560"/>
            <a:chOff x="2700360" y="1773360"/>
            <a:chExt cx="3166560" cy="3166560"/>
          </a:xfrm>
        </p:grpSpPr>
        <p:sp>
          <p:nvSpPr>
            <p:cNvPr id="226" name=""/>
            <p:cNvSpPr/>
            <p:nvPr/>
          </p:nvSpPr>
          <p:spPr>
            <a:xfrm>
              <a:off x="2700360" y="39736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1640" y="41482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70040" y="43246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41760" y="4676400"/>
              <a:ext cx="256680" cy="263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5400" y="4676400"/>
              <a:ext cx="256320" cy="263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1640" y="2739600"/>
              <a:ext cx="256680" cy="26352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55360" y="3005280"/>
              <a:ext cx="25632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83760" y="3707640"/>
              <a:ext cx="25632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2160" y="4061160"/>
              <a:ext cx="256320" cy="26352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40560" y="4148280"/>
              <a:ext cx="25632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57040" y="3356640"/>
              <a:ext cx="25632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85440" y="3443760"/>
              <a:ext cx="25632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0040" y="388440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98440" y="423756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8360" y="1773360"/>
              <a:ext cx="256680" cy="263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83760" y="2388240"/>
              <a:ext cx="256320" cy="263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83760" y="3003120"/>
              <a:ext cx="25632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0080" y="326736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7120" y="3531240"/>
              <a:ext cx="25668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53800" y="3795480"/>
              <a:ext cx="256320" cy="26352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70040" y="22114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2240" y="2741400"/>
              <a:ext cx="25632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83880" y="3005280"/>
              <a:ext cx="256680" cy="263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25520" y="3269520"/>
              <a:ext cx="256680" cy="26352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2200" y="3797280"/>
              <a:ext cx="25632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5520" y="221148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3880" y="2565000"/>
              <a:ext cx="25668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2200" y="2739600"/>
              <a:ext cx="256320" cy="263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10600" y="3356640"/>
              <a:ext cx="256320" cy="263880"/>
            </a:xfrm>
            <a:prstGeom prst="ellipse">
              <a:avLst/>
            </a:prstGeom>
            <a:solidFill>
              <a:srgbClr val="3333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724800" y="3556080"/>
            <a:ext cx="173484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564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cc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570852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608004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7520" y="56610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7880" y="6021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45156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7880" y="6404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D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2240" y="570852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2240" y="608004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34480" y="5661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34480" y="602136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62240" y="645156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34480" y="64040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D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eelverzamel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70120" y="5229360"/>
            <a:ext cx="2574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70120" y="4869000"/>
            <a:ext cx="2574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05440" y="522936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75200" y="522756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45280" y="3429000"/>
            <a:ext cx="25704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05440" y="4869000"/>
            <a:ext cx="257040" cy="264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45280" y="3787920"/>
            <a:ext cx="25704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05440" y="3787920"/>
            <a:ext cx="25704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10160" y="4148280"/>
            <a:ext cx="25704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45280" y="3068640"/>
            <a:ext cx="257040" cy="264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10160" y="4869000"/>
            <a:ext cx="25704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0160" y="522756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75200" y="4869000"/>
            <a:ext cx="2574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10160" y="4506840"/>
            <a:ext cx="25704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222552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Arial"/>
              </a:rPr>
              <a:t>4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3645000"/>
            <a:ext cx="1735200" cy="914400"/>
          </a:xfrm>
          <a:prstGeom prst="borderCallout3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cc00"/>
                </a:solidFill>
                <a:latin typeface="Arial"/>
              </a:rPr>
              <a:t>4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70852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08004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7520" y="56610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7880" y="6021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645156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7880" y="6404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D,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2240" y="570852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608004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34480" y="5661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B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34480" y="602136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C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2240" y="645156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34480" y="64040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FD,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46720" y="270828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45280" y="4869000"/>
            <a:ext cx="25704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45280" y="5227560"/>
            <a:ext cx="25704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45280" y="4508640"/>
            <a:ext cx="257040" cy="264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6720" y="414828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05440" y="4508640"/>
            <a:ext cx="2556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05440" y="4148280"/>
            <a:ext cx="257040" cy="264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70120" y="4508640"/>
            <a:ext cx="2574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70120" y="4148280"/>
            <a:ext cx="257400" cy="263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75200" y="450684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45280" y="2349360"/>
            <a:ext cx="25704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5280" y="1989000"/>
            <a:ext cx="257040" cy="2653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46720" y="162864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0" y="414828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45280" y="1268280"/>
            <a:ext cx="255600" cy="2635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11:21Z</dcterms:created>
  <dc:creator>Thijs van Bruchem</dc:creator>
  <dc:description/>
  <dc:language>en-US</dc:language>
  <cp:lastModifiedBy>Thijs van Bruchem</cp:lastModifiedBy>
  <dcterms:modified xsi:type="dcterms:W3CDTF">2010-11-08T21:35:42Z</dcterms:modified>
  <cp:revision>272</cp:revision>
  <dc:subject/>
  <dc:title>Dia 1</dc:title>
</cp:coreProperties>
</file>